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6320" y="0"/>
            <a:ext cx="400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7cc"/>
                </a:solidFill>
                <a:latin typeface="AvantGarde Md BT"/>
              </a:rPr>
              <a:t>NEFE High School Financial Plan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1371600" cy="5810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5313240"/>
            <a:ext cx="2362320" cy="1544760"/>
            <a:chOff x="0" y="5313240"/>
            <a:chExt cx="2362320" cy="1544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rcRect l="0" t="0" r="0" b="2246"/>
            <a:stretch/>
          </p:blipFill>
          <p:spPr>
            <a:xfrm>
              <a:off x="0" y="5313240"/>
              <a:ext cx="236232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5410080"/>
              <a:ext cx="2362320" cy="1447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11880" y="22860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One - Your Financial Plan: Where It All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4160" y="4952880"/>
            <a:ext cx="55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1 - Your Financial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t All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743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2b0"/>
                </a:solidFill>
                <a:latin typeface="Arial"/>
              </a:rPr>
              <a:t>Spending Re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5095" t="36208" r="4247" b="5583"/>
          <a:stretch/>
        </p:blipFill>
        <p:spPr>
          <a:xfrm>
            <a:off x="380988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74240" y="2514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3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47400" y="35053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6120" y="419112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1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60600" y="21337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55200" y="28195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73560" y="35053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05080" y="38098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1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90680" y="44956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4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7560" y="44956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5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00160" y="49528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$1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" y="6491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71520" y="1905120"/>
            <a:ext cx="659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harlesworth"/>
              </a:rPr>
              <a:t>What about you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ors That Affect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6491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544920" cy="3581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5600" y="103500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Futura Md BT"/>
              </a:rPr>
              <a:t>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8440" y="297180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Futura Md BT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560" y="4952880"/>
            <a:ext cx="20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SimSun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0720" y="3048120"/>
            <a:ext cx="180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8000"/>
                </a:solidFill>
                <a:latin typeface="Curlz MT"/>
              </a:rPr>
              <a:t>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38280" y="4267080"/>
            <a:ext cx="14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Stencil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74440" y="974880"/>
            <a:ext cx="16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Orbus Multiserif"/>
              </a:rPr>
              <a:t>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360" y="5867280"/>
            <a:ext cx="18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Impact"/>
              </a:rPr>
              <a:t>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0200" y="419112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llegro BT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49600" y="5105520"/>
            <a:ext cx="26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Palatino Linotype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57240" y="0"/>
            <a:ext cx="134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empus Sans ITC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0440" y="60199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Plump MT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55800" y="3276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Impact"/>
              </a:rPr>
              <a:t>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83480" y="2971800"/>
            <a:ext cx="193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5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8120" y="5334120"/>
            <a:ext cx="2666880" cy="1218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8924400">
            <a:off x="4756320" y="4946400"/>
            <a:ext cx="1371600" cy="30456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-Mak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038480"/>
            <a:ext cx="221004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200">
            <a:off x="3711240" y="212724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02600">
            <a:off x="3733920" y="388620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371600"/>
            <a:ext cx="221004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200400"/>
            <a:ext cx="221004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igh P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9583200">
            <a:off x="3656880" y="3047760"/>
            <a:ext cx="1981080" cy="304560"/>
          </a:xfrm>
          <a:prstGeom prst="rightArrow">
            <a:avLst>
              <a:gd name="adj1" fmla="val 50000"/>
              <a:gd name="adj2" fmla="val 1626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2362320"/>
            <a:ext cx="221004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104480"/>
            <a:ext cx="4419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cision- Mak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09480" y="2438280"/>
            <a:ext cx="3543480" cy="4191120"/>
            <a:chOff x="609480" y="2438280"/>
            <a:chExt cx="3543480" cy="4191120"/>
          </a:xfrm>
        </p:grpSpPr>
        <p:sp>
          <p:nvSpPr>
            <p:cNvPr id="133" name=""/>
            <p:cNvSpPr/>
            <p:nvPr/>
          </p:nvSpPr>
          <p:spPr>
            <a:xfrm rot="2598600">
              <a:off x="2285640" y="4952880"/>
              <a:ext cx="3808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598600">
              <a:off x="2285640" y="3276360"/>
              <a:ext cx="3808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658400">
              <a:off x="2209680" y="5714640"/>
              <a:ext cx="3808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658400">
              <a:off x="2209680" y="4038120"/>
              <a:ext cx="3808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640" y="5790960"/>
              <a:ext cx="22096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42920" y="4952880"/>
              <a:ext cx="221004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ke a Dec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480" y="2438280"/>
              <a:ext cx="220968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dentify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7640" y="4114800"/>
              <a:ext cx="220968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 Pr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nd C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42920" y="3276360"/>
              <a:ext cx="2210040" cy="914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stabl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it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952880" y="2438280"/>
            <a:ext cx="3543480" cy="4191120"/>
            <a:chOff x="4952880" y="2438280"/>
            <a:chExt cx="3543480" cy="4191120"/>
          </a:xfrm>
        </p:grpSpPr>
        <p:sp>
          <p:nvSpPr>
            <p:cNvPr id="143" name=""/>
            <p:cNvSpPr/>
            <p:nvPr/>
          </p:nvSpPr>
          <p:spPr>
            <a:xfrm rot="2598600">
              <a:off x="6629040" y="3200400"/>
              <a:ext cx="3808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658400">
              <a:off x="6552720" y="4038120"/>
              <a:ext cx="38124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598600">
              <a:off x="6552720" y="4876560"/>
              <a:ext cx="38124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658400">
              <a:off x="6629400" y="5790600"/>
              <a:ext cx="38088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1040" y="5790960"/>
              <a:ext cx="2210040" cy="8384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Monitor &amp; Modif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the P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86680" y="4952880"/>
              <a:ext cx="2209680" cy="9144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mpleme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he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52880" y="2438280"/>
              <a:ext cx="2210040" cy="9144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91040" y="4114800"/>
              <a:ext cx="2210040" cy="9144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ate a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86680" y="3276360"/>
              <a:ext cx="2209680" cy="9144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724280" y="110484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nancial Pl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 and Financi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0" y="6491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76320" y="0"/>
            <a:ext cx="400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7cc"/>
                </a:solidFill>
                <a:latin typeface="AvantGarde Md BT"/>
              </a:rPr>
              <a:t>NEFE High School Financial Plan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12240" y="228600"/>
            <a:ext cx="41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One - Your Financial Plan: Where It All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96080" y="6248520"/>
            <a:ext cx="13716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33920" y="35053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1905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229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2b0"/>
                </a:solidFill>
                <a:latin typeface="Arial"/>
              </a:rPr>
              <a:t>Know What You W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752480"/>
            <a:ext cx="221004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3352680"/>
            <a:ext cx="2210040" cy="914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78720" y="2017800"/>
            <a:ext cx="220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where to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85200" y="3657600"/>
            <a:ext cx="235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5200" y="4191120"/>
            <a:ext cx="235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85200" y="4724280"/>
            <a:ext cx="235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0" y="64911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800" y="990720"/>
            <a:ext cx="39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333"/>
                </a:solidFill>
                <a:latin typeface="Arial"/>
              </a:rPr>
              <a:t>R</a:t>
            </a:r>
            <a:r>
              <a:rPr b="0" lang="en-US" sz="7200" spc="-1" strike="noStrike">
                <a:solidFill>
                  <a:srgbClr val="0082b0"/>
                </a:solidFill>
                <a:latin typeface="Arial"/>
              </a:rPr>
              <a:t>EAL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440" y="2163600"/>
            <a:ext cx="770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333"/>
                </a:solidFill>
                <a:latin typeface="Arial"/>
              </a:rPr>
              <a:t>R</a:t>
            </a:r>
            <a:r>
              <a:rPr b="0" lang="en-US" sz="7200" spc="-1" strike="noStrike">
                <a:solidFill>
                  <a:srgbClr val="0082b0"/>
                </a:solidFill>
                <a:latin typeface="Arial"/>
              </a:rPr>
              <a:t>ESPONSIBIL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3352680"/>
            <a:ext cx="536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333"/>
                </a:solidFill>
                <a:latin typeface="Arial"/>
              </a:rPr>
              <a:t>R</a:t>
            </a:r>
            <a:r>
              <a:rPr b="0" lang="en-US" sz="7200" spc="-1" strike="noStrike">
                <a:solidFill>
                  <a:srgbClr val="0082b0"/>
                </a:solidFill>
                <a:latin typeface="Arial"/>
              </a:rPr>
              <a:t>ESTRAI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33520"/>
            <a:ext cx="0" cy="6324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750"/>
                            </p:stCondLst>
                            <p:childTnLst>
                              <p:par>
                                <p:cTn id="5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15840" y="990720"/>
            <a:ext cx="36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333"/>
                </a:solidFill>
                <a:latin typeface="Arial"/>
              </a:rPr>
              <a:t>S</a:t>
            </a:r>
            <a:r>
              <a:rPr b="0" lang="en-US" sz="7200" spc="-1" strike="noStrike">
                <a:solidFill>
                  <a:srgbClr val="0082b0"/>
                </a:solidFill>
                <a:latin typeface="Arial"/>
              </a:rPr>
              <a:t>AV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6200" y="2163600"/>
            <a:ext cx="49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333"/>
                </a:solidFill>
                <a:latin typeface="Arial"/>
              </a:rPr>
              <a:t>S</a:t>
            </a:r>
            <a:r>
              <a:rPr b="0" lang="en-US" sz="7200" spc="-1" strike="noStrike">
                <a:solidFill>
                  <a:srgbClr val="0082b0"/>
                </a:solidFill>
                <a:latin typeface="Arial"/>
              </a:rPr>
              <a:t>PEND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6560" y="3352680"/>
            <a:ext cx="43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333"/>
                </a:solidFill>
                <a:latin typeface="Arial"/>
              </a:rPr>
              <a:t>S</a:t>
            </a:r>
            <a:r>
              <a:rPr b="0" lang="en-US" sz="7200" spc="-1" strike="noStrike">
                <a:solidFill>
                  <a:srgbClr val="0082b0"/>
                </a:solidFill>
                <a:latin typeface="Arial"/>
              </a:rPr>
              <a:t>HAR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33520"/>
            <a:ext cx="0" cy="6324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00" y="6491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75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4160" y="4952880"/>
            <a:ext cx="54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1: Your Financial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t All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ost people don’t plan to fail…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They simply fail to plan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4375" t="21002" r="50001" b="21002"/>
          <a:stretch/>
        </p:blipFill>
        <p:spPr>
          <a:xfrm>
            <a:off x="2819520" y="609480"/>
            <a:ext cx="5541840" cy="563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60" y="457200"/>
            <a:ext cx="45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2b0"/>
                </a:solidFill>
                <a:latin typeface="Arial"/>
              </a:rPr>
              <a:t>The Five-Step Financial Planning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2b0"/>
                </a:solidFill>
                <a:latin typeface="Arial"/>
              </a:rPr>
              <a:t>Sample Wants and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Food for break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Clothes fo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Transportation to school 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W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An iP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DVD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Hot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2b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Getting a goo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Religious faith or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Social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Handling money responsi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Friendships / The people I hang ou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2b0"/>
                </a:solidFill>
                <a:latin typeface="Arial"/>
              </a:rPr>
              <a:t>Term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14360" y="144792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SHORT-TERM GOALS</a:t>
            </a: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88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88a00"/>
                </a:solidFill>
                <a:latin typeface="Arial"/>
              </a:rPr>
              <a:t>Within three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INTERMEDIATE-TERM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88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88a00"/>
                </a:solidFill>
                <a:latin typeface="Arial"/>
              </a:rPr>
              <a:t>Three months to a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b0"/>
                </a:solidFill>
                <a:latin typeface="Arial"/>
              </a:rPr>
              <a:t>LONG-TERM GOALS</a:t>
            </a: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e88a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88a00"/>
                </a:solidFill>
                <a:latin typeface="Arial"/>
              </a:rPr>
              <a:t>More than a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00" y="6491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2b0"/>
                </a:solidFill>
                <a:latin typeface="Arial"/>
              </a:rPr>
              <a:t>Delayed Gra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Saving money over time to make a major purc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Waiting to buy a new product until the price goe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Waiting to see the latest movie until the crowds get smaller and the lines sho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2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b0"/>
                </a:solidFill>
                <a:latin typeface="Arial"/>
              </a:rPr>
              <a:t>___________________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6491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95480" y="1523880"/>
            <a:ext cx="312444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4000" y="68580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-M-A-R-T</a:t>
            </a:r>
            <a:r>
              <a:rPr b="1" lang="en-US" sz="4800" spc="-1" strike="noStrike">
                <a:solidFill>
                  <a:srgbClr val="0082b0"/>
                </a:solidFill>
                <a:latin typeface="Arial"/>
              </a:rPr>
              <a:t> GOAL CRITE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523880"/>
            <a:ext cx="3200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2860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464832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-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8862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04812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0" y="6491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838080"/>
            <a:ext cx="7925040" cy="518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5720" y="792000"/>
            <a:ext cx="34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MA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523880"/>
            <a:ext cx="3200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2860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urab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64832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-Limite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8862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listic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04812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ainable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676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y for lodging, transportation, meals for a 5-day trip to Washington, D.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4400" y="25146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$300 through fundraising, $50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rthday money, save $25 a week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32767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I stick to my plan, I’ll have the money when I need i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4038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still have enough money to live on while I work toward this go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4800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need to have all the money by 6 months from n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5313240"/>
            <a:ext cx="2362320" cy="1544760"/>
            <a:chOff x="0" y="5313240"/>
            <a:chExt cx="2362320" cy="154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0" t="0" r="0" b="2246"/>
            <a:stretch/>
          </p:blipFill>
          <p:spPr>
            <a:xfrm>
              <a:off x="0" y="5313240"/>
              <a:ext cx="236232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5410080"/>
              <a:ext cx="2362320" cy="1447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160" y="64911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01:51Z</dcterms:created>
  <dc:creator> </dc:creator>
  <dc:description/>
  <dc:language>en-US</dc:language>
  <cp:lastModifiedBy>John Parfrey</cp:lastModifiedBy>
  <dcterms:modified xsi:type="dcterms:W3CDTF">2007-07-01T16:30:23Z</dcterms:modified>
  <cp:revision>37</cp:revision>
  <dc:subject/>
  <dc:title>Slide 1</dc:title>
</cp:coreProperties>
</file>